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907588" cy="6858000"/>
  <p:notesSz cx="9856788" cy="6732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61849-C4F8-4FE5-8904-DF2BFE73A0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000" y="379116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57DDC-61A7-4BFA-9316-AF0F4329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34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C809C-C333-4FF0-A680-28531F96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964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28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00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0964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28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77F67-227E-4BD6-9D79-68A514CA7D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6D9C3-6A53-485F-9D60-109ED76A51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92C5C-5EA2-4D42-B44E-AFBE92A0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3FC13-55E8-40EF-A3DD-B442E58E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78BF7-0D6C-48AD-8A96-C310DD05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4F144-4B27-409F-9C29-05C97D76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5000" y="175680"/>
            <a:ext cx="8388360" cy="27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65F94-261E-4F06-BBFE-35778C1D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4CEBA-6819-4069-B2B4-4BA41360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EF13F-28E7-4F6B-B7BA-6FACC680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634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AB01D-4278-4621-A4B7-12FD70EC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AA067-FFBD-4B05-B9F1-57FA1F8D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5000" y="379116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1D14A-630C-44D4-B58D-15545A14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634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7CCDD-470C-4909-9A90-90A96247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964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2428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500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0964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2428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6881F-08B9-4F02-8137-6F937EFF41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8EFE-0669-42A6-959C-76F2E5F04F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F1A6-C718-46B1-BB99-8A980B95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CA9A-73B1-4455-B56C-F0AE29E0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CB1B-2AC8-4AEA-8477-949A7646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6EB0-9922-4F95-8057-7758638A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C93F9-5460-4C94-88DE-C661FDB6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95000" y="175680"/>
            <a:ext cx="8388360" cy="27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F3FE-F78B-40F6-996C-87A8F4E6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1F44-ADCC-4A3D-A891-D1662C64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634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7123-E44F-42E4-847A-458F660B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755A-7D82-4C78-8B03-5B77A102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000" y="379116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930F-4D60-4E8F-A3BA-619F27A8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634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4B0F-6806-425E-BAFD-E393AA56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0964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2428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9500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0964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52428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1ADD-4166-4FF0-87CA-E6DBFDF56E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F64113-1299-4217-9FD2-29433E71C2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D17D3-C04B-464C-A036-EF738944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DC8A34-052F-41B2-AAB4-F959F22F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DB4BA-B60C-459E-BA3B-FDAFF19E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0CE4E9-6C0F-42A8-9F00-4896C6E9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65DA3-31F6-425C-98B5-B759E8EE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95000" y="175680"/>
            <a:ext cx="8388360" cy="27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2DEAE7-257C-4ABB-BB76-6672853E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433461-80DE-4060-B85E-2A3054BF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634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82AEC7-0BBE-44FB-8F48-2E29281C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6FCC03-D7A3-45DB-91F3-BD31372F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5000" y="379116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44C66E-5A0A-435A-922F-A724143B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0634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103CE0-712D-434B-BA31-6B2D9669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0964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52428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9500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50964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52428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1487CF-4A86-492B-A62E-DB70DADD97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E871CD-9B27-42A5-883F-B498077FA1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2FD24-7E4E-45F0-873B-B65484CD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B77C2D-5C49-4F81-AC6D-E6DF5C62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B191F2-C46E-4652-8B1D-5B3D6D9C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C3A3D7-543C-4F08-A283-B1B0FED9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2BADD2-E48A-4216-BDE2-C3A30996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95000" y="175680"/>
            <a:ext cx="8388360" cy="27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A8AC03-6C6E-4C75-91EB-2969F270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5DAFC4-DC54-44E5-B8B2-B12616F0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634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DC6C98-4D3C-46D2-B678-4304017E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92A7CC-A72E-4D42-A8E6-41F78A09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5000" y="379116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C91802-F159-416B-8944-C69E8149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634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CCC508-6928-4F40-AB5A-D5EC43AB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000" y="175680"/>
            <a:ext cx="8388360" cy="27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445AE-F129-4A35-93BF-2EF0E15B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0964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52428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500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50964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52428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301C25-E90F-40B2-8B00-DF700DBCF3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11781-5CB5-4544-84CC-52AD0826C1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22C28-562A-46F0-B62D-7988D6A4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3ED2F-4A66-4219-B72A-E9D18F2B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8EEC3-55C9-4786-AF42-E34D8E34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B1024-B368-42D4-8003-738EA93B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95000" y="175680"/>
            <a:ext cx="8388360" cy="27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23406-6837-4C63-893F-5EA82892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94CF0-1A0F-4C07-A1D7-DD864C06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634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7805A-90D7-469F-A71B-693331B4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96A9D-0E68-4977-BBF1-6E3932F7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C621A-44DD-49DB-820B-A01E4659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5000" y="379116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2D1A1-6012-447D-B54A-31B1DC2B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0634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7E6B9-AD43-4BE0-AD81-15C93F65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0964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52428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9500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50964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52428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123D6-5B24-40C1-9631-290FBE4D5F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8937A1-4D7D-4261-8EFD-5103F29B28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2FD3B9-F3D4-46B3-9EA5-0D8A24EE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A6A29F-7D45-4D95-8381-9756F2FA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F058E4-C4FF-4731-867E-3DC19A60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92F164-DC30-4213-AA23-E0142E26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95000" y="175680"/>
            <a:ext cx="8388360" cy="27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6973F7-7BB2-4455-95D5-F9D6354F1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02706B-8ED4-4E30-BB65-71D4571F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34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674B4-59C6-4B84-AF1E-76FF9503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634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8DBD56-3DD8-48D7-9AF1-34211EC9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BCDD42-0CC1-4B4D-8876-58B13E48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5000" y="379116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992B90-EA10-4ED9-9CA5-BEB5EB11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0634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98FEF4-0EEF-4B70-AD08-2BB2F10A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0964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52428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9500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0964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52428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9831E0-B779-4D72-A4D3-53D6A80B2C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E07D7-3EE2-4231-A9ED-55BEE70E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464a"/>
                </a:solidFill>
                <a:latin typeface="Europe"/>
              </a:rPr>
              <a:t>Click to edit the title text format</a:t>
            </a: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Click to edit the outline text format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1" marL="743040" indent="-285840">
              <a:spcBef>
                <a:spcPts val="300"/>
              </a:spcBef>
              <a:buClr>
                <a:srgbClr val="fed20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econd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2" marL="1143000" indent="-228600">
              <a:spcBef>
                <a:spcPts val="300"/>
              </a:spcBef>
              <a:buClr>
                <a:srgbClr val="fed208"/>
              </a:buClr>
              <a:buSzPct val="9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Third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3" marL="1600200" indent="-228600">
              <a:spcBef>
                <a:spcPts val="300"/>
              </a:spcBef>
              <a:buClr>
                <a:srgbClr val="3d46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Four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4" marL="2057400" indent="-228600">
              <a:spcBef>
                <a:spcPts val="300"/>
              </a:spcBef>
              <a:buClr>
                <a:srgbClr val="3d46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Fif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ix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even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Euro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32CA-97EC-45A0-B765-861510B015E1}" type="datetime">
              <a:rPr b="0" lang="ru-RU" sz="1000" spc="-1" strike="noStrike">
                <a:solidFill>
                  <a:srgbClr val="898989"/>
                </a:solidFill>
                <a:latin typeface="Europ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Euro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633A-78D7-4496-9C10-80F4AFC096B7}" type="slidenum">
              <a:rPr b="0" lang="ru-RU" sz="1100" spc="-1" strike="noStrike">
                <a:solidFill>
                  <a:srgbClr val="898989"/>
                </a:solidFill>
                <a:latin typeface="Europ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464a"/>
                </a:solidFill>
                <a:latin typeface="Europe"/>
              </a:rPr>
              <a:t>Click to edit the title text format</a:t>
            </a: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Click to edit the outline text format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1" marL="743040" indent="-285840">
              <a:spcBef>
                <a:spcPts val="300"/>
              </a:spcBef>
              <a:buClr>
                <a:srgbClr val="fed20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econd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2" marL="1143000" indent="-228600">
              <a:spcBef>
                <a:spcPts val="300"/>
              </a:spcBef>
              <a:buClr>
                <a:srgbClr val="fed208"/>
              </a:buClr>
              <a:buSzPct val="9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Third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3" marL="1600200" indent="-228600">
              <a:spcBef>
                <a:spcPts val="300"/>
              </a:spcBef>
              <a:buClr>
                <a:srgbClr val="3d46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Four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4" marL="2057400" indent="-228600">
              <a:spcBef>
                <a:spcPts val="300"/>
              </a:spcBef>
              <a:buClr>
                <a:srgbClr val="3d46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Fif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ix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even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Euro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5FB3-D8AD-4DF1-9C69-260C41E20CD4}" type="datetime">
              <a:rPr b="0" lang="ru-RU" sz="1000" spc="-1" strike="noStrike">
                <a:solidFill>
                  <a:srgbClr val="898989"/>
                </a:solidFill>
                <a:latin typeface="Europ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Euro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9BB2-9473-4EF9-9BEA-2A03B979B09E}" type="slidenum">
              <a:rPr b="0" lang="ru-RU" sz="1100" spc="-1" strike="noStrike">
                <a:solidFill>
                  <a:srgbClr val="898989"/>
                </a:solidFill>
                <a:latin typeface="Europ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464a"/>
                </a:solidFill>
                <a:latin typeface="Europe"/>
              </a:rPr>
              <a:t>Click to edit the title text format</a:t>
            </a: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Click to edit the outline text format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1" marL="743040" indent="-285840">
              <a:spcBef>
                <a:spcPts val="300"/>
              </a:spcBef>
              <a:buClr>
                <a:srgbClr val="fed20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econd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2" marL="1143000" indent="-228600">
              <a:spcBef>
                <a:spcPts val="300"/>
              </a:spcBef>
              <a:buClr>
                <a:srgbClr val="fed208"/>
              </a:buClr>
              <a:buSzPct val="9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Third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3" marL="1600200" indent="-228600">
              <a:spcBef>
                <a:spcPts val="300"/>
              </a:spcBef>
              <a:buClr>
                <a:srgbClr val="3d46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Four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4" marL="2057400" indent="-228600">
              <a:spcBef>
                <a:spcPts val="300"/>
              </a:spcBef>
              <a:buClr>
                <a:srgbClr val="3d46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Fif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ix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even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Euro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54D3-2560-4DC0-B355-C5A7609C1ED4}" type="datetime">
              <a:rPr b="0" lang="ru-RU" sz="1000" spc="-1" strike="noStrike">
                <a:solidFill>
                  <a:srgbClr val="898989"/>
                </a:solidFill>
                <a:latin typeface="Europ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Euro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6B69-F508-4C98-AB5C-2A00C182840E}" type="slidenum">
              <a:rPr b="0" lang="ru-RU" sz="1100" spc="-1" strike="noStrike">
                <a:solidFill>
                  <a:srgbClr val="898989"/>
                </a:solidFill>
                <a:latin typeface="Europ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464a"/>
                </a:solidFill>
                <a:latin typeface="Europe"/>
              </a:rPr>
              <a:t>Click to edit the title text format</a:t>
            </a: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Click to edit the outline text format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1" marL="743040" indent="-285840">
              <a:spcBef>
                <a:spcPts val="300"/>
              </a:spcBef>
              <a:buClr>
                <a:srgbClr val="fed20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econd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2" marL="1143000" indent="-228600">
              <a:spcBef>
                <a:spcPts val="300"/>
              </a:spcBef>
              <a:buClr>
                <a:srgbClr val="fed208"/>
              </a:buClr>
              <a:buSzPct val="9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Third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3" marL="1600200" indent="-228600">
              <a:spcBef>
                <a:spcPts val="300"/>
              </a:spcBef>
              <a:buClr>
                <a:srgbClr val="3d46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Four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4" marL="2057400" indent="-228600">
              <a:spcBef>
                <a:spcPts val="300"/>
              </a:spcBef>
              <a:buClr>
                <a:srgbClr val="3d46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Fif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ix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even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Euro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0EFD-B6E0-4C9E-9A19-8B83029B9C5A}" type="datetime">
              <a:rPr b="0" lang="ru-RU" sz="1000" spc="-1" strike="noStrike">
                <a:solidFill>
                  <a:srgbClr val="898989"/>
                </a:solidFill>
                <a:latin typeface="Europ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8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Euro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6942-45EA-42EE-9C7A-33E2ACCD917E}" type="slidenum">
              <a:rPr b="0" lang="ru-RU" sz="1100" spc="-1" strike="noStrike">
                <a:solidFill>
                  <a:srgbClr val="898989"/>
                </a:solidFill>
                <a:latin typeface="Europ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464a"/>
                </a:solidFill>
                <a:latin typeface="Europe"/>
              </a:rPr>
              <a:t>Click to edit the title text format</a:t>
            </a: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Click to edit the outline text format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1" marL="743040" indent="-285840">
              <a:spcBef>
                <a:spcPts val="300"/>
              </a:spcBef>
              <a:buClr>
                <a:srgbClr val="fed20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econd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2" marL="1143000" indent="-228600">
              <a:spcBef>
                <a:spcPts val="300"/>
              </a:spcBef>
              <a:buClr>
                <a:srgbClr val="fed208"/>
              </a:buClr>
              <a:buSzPct val="9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Third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3" marL="1600200" indent="-228600">
              <a:spcBef>
                <a:spcPts val="300"/>
              </a:spcBef>
              <a:buClr>
                <a:srgbClr val="3d46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Four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4" marL="2057400" indent="-228600">
              <a:spcBef>
                <a:spcPts val="300"/>
              </a:spcBef>
              <a:buClr>
                <a:srgbClr val="3d46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Fif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ix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even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9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Euro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C37F-5AA9-4D21-8E8E-31402501F902}" type="datetime">
              <a:rPr b="0" lang="ru-RU" sz="1000" spc="-1" strike="noStrike">
                <a:solidFill>
                  <a:srgbClr val="898989"/>
                </a:solidFill>
                <a:latin typeface="Europ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0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Euro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CCDF-6CA1-43F0-9D9C-C22AA9EC1EE2}" type="slidenum">
              <a:rPr b="0" lang="ru-RU" sz="1100" spc="-1" strike="noStrike">
                <a:solidFill>
                  <a:srgbClr val="898989"/>
                </a:solidFill>
                <a:latin typeface="Europ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464a"/>
                </a:solidFill>
                <a:latin typeface="Europe"/>
              </a:rPr>
              <a:t>Click to edit the title text format</a:t>
            </a: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Click to edit the outline text format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1" marL="743040" indent="-285840">
              <a:spcBef>
                <a:spcPts val="300"/>
              </a:spcBef>
              <a:buClr>
                <a:srgbClr val="fed20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econd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2" marL="1143000" indent="-228600">
              <a:spcBef>
                <a:spcPts val="300"/>
              </a:spcBef>
              <a:buClr>
                <a:srgbClr val="fed208"/>
              </a:buClr>
              <a:buSzPct val="9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Third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3" marL="1600200" indent="-228600">
              <a:spcBef>
                <a:spcPts val="300"/>
              </a:spcBef>
              <a:buClr>
                <a:srgbClr val="3d46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Four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4" marL="2057400" indent="-228600">
              <a:spcBef>
                <a:spcPts val="300"/>
              </a:spcBef>
              <a:buClr>
                <a:srgbClr val="3d46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Fif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ix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even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Euro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786B-0B03-4FDC-AA19-08A2889D3BBC}" type="datetime">
              <a:rPr b="0" lang="ru-RU" sz="1000" spc="-1" strike="noStrike">
                <a:solidFill>
                  <a:srgbClr val="898989"/>
                </a:solidFill>
                <a:latin typeface="Europ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Euro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93A7-F228-44BA-B9E0-C304F0B63DA0}" type="slidenum">
              <a:rPr b="0" lang="ru-RU" sz="1100" spc="-1" strike="noStrike">
                <a:solidFill>
                  <a:srgbClr val="898989"/>
                </a:solidFill>
                <a:latin typeface="Europ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464a"/>
                </a:solidFill>
                <a:latin typeface="Europe"/>
              </a:rPr>
              <a:t>Click to edit the title text format</a:t>
            </a: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Click to edit the outline text format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1" marL="743040" indent="-285840">
              <a:spcBef>
                <a:spcPts val="300"/>
              </a:spcBef>
              <a:buClr>
                <a:srgbClr val="fed20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econd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2" marL="1143000" indent="-228600">
              <a:spcBef>
                <a:spcPts val="300"/>
              </a:spcBef>
              <a:buClr>
                <a:srgbClr val="fed208"/>
              </a:buClr>
              <a:buSzPct val="9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Third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3" marL="1600200" indent="-228600">
              <a:spcBef>
                <a:spcPts val="300"/>
              </a:spcBef>
              <a:buClr>
                <a:srgbClr val="3d46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Four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4" marL="2057400" indent="-228600">
              <a:spcBef>
                <a:spcPts val="300"/>
              </a:spcBef>
              <a:buClr>
                <a:srgbClr val="3d46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Fif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ix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even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Euro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A220-ADC6-40D7-B293-3C40FA5B9529}" type="datetime">
              <a:rPr b="0" lang="ru-RU" sz="1000" spc="-1" strike="noStrike">
                <a:solidFill>
                  <a:srgbClr val="898989"/>
                </a:solidFill>
                <a:latin typeface="Europ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4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Euro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710B-7999-45F8-BE0B-4D56D9FF5EFB}" type="slidenum">
              <a:rPr b="0" lang="ru-RU" sz="1100" spc="-1" strike="noStrike">
                <a:solidFill>
                  <a:srgbClr val="898989"/>
                </a:solidFill>
                <a:latin typeface="Europ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8" descr=""/>
          <p:cNvPicPr/>
          <p:nvPr/>
        </p:nvPicPr>
        <p:blipFill>
          <a:blip r:embed="rId1"/>
          <a:stretch/>
        </p:blipFill>
        <p:spPr>
          <a:xfrm>
            <a:off x="0" y="1057320"/>
            <a:ext cx="8793000" cy="561168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Europe"/>
              </a:rPr>
              <a:t>Приложение </a:t>
            </a:r>
            <a:r>
              <a:rPr b="1" lang="en-US" sz="1300" spc="-1" strike="noStrike">
                <a:solidFill>
                  <a:srgbClr val="000000"/>
                </a:solidFill>
                <a:latin typeface="Europe"/>
              </a:rPr>
              <a:t>1.1</a:t>
            </a:r>
            <a:br>
              <a:rPr sz="2200"/>
            </a:br>
            <a:r>
              <a:rPr b="0" lang="ru-RU" sz="1400" spc="-1" strike="noStrike">
                <a:solidFill>
                  <a:srgbClr val="3d464a"/>
                </a:solidFill>
                <a:latin typeface="Europe"/>
              </a:rPr>
              <a:t>Структурная карта кровли</a:t>
            </a:r>
            <a:r>
              <a:rPr b="0" lang="en-US" sz="1400" spc="-1" strike="noStrike">
                <a:solidFill>
                  <a:srgbClr val="3d464a"/>
                </a:solidFill>
                <a:latin typeface="Europe"/>
              </a:rPr>
              <a:t> </a:t>
            </a:r>
            <a:r>
              <a:rPr b="0" lang="ru-RU" sz="1400" spc="-1" strike="noStrike">
                <a:solidFill>
                  <a:srgbClr val="3d464a"/>
                </a:solidFill>
                <a:latin typeface="Europe"/>
              </a:rPr>
              <a:t>пласта  с местоположением скважин</a:t>
            </a:r>
            <a:br>
              <a:rPr sz="1400"/>
            </a:br>
            <a:r>
              <a:rPr b="0" lang="ru-RU" sz="1400" spc="-1" strike="noStrike">
                <a:solidFill>
                  <a:srgbClr val="3d464a"/>
                </a:solidFill>
                <a:latin typeface="Europe"/>
              </a:rPr>
              <a:t>М1:25000 </a:t>
            </a:r>
            <a:endParaRPr b="0" lang="en-US" sz="14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1300320" y="3578400"/>
            <a:ext cx="1904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Arial"/>
                <a:ea typeface="Arial"/>
              </a:rPr>
              <a:t>Обновленная Плановая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Arial"/>
                <a:ea typeface="Arial"/>
              </a:rPr>
              <a:t>траектория скв.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 3413_MZ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Прямая со стрелкой 3"/>
          <p:cNvCxnSpPr/>
          <p:nvPr/>
        </p:nvCxnSpPr>
        <p:spPr>
          <a:xfrm flipV="1">
            <a:off x="3034800" y="3410640"/>
            <a:ext cx="623160" cy="27396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284" name="TextBox 16"/>
          <p:cNvSpPr/>
          <p:nvPr/>
        </p:nvSpPr>
        <p:spPr>
          <a:xfrm>
            <a:off x="3122640" y="2658960"/>
            <a:ext cx="876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3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25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Овал 9"/>
          <p:cNvSpPr/>
          <p:nvPr/>
        </p:nvSpPr>
        <p:spPr>
          <a:xfrm>
            <a:off x="3919680" y="3635280"/>
            <a:ext cx="79200" cy="66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"/>
          <p:cNvSpPr/>
          <p:nvPr/>
        </p:nvSpPr>
        <p:spPr>
          <a:xfrm>
            <a:off x="3885840" y="3519360"/>
            <a:ext cx="77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1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37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Овал 9"/>
          <p:cNvSpPr/>
          <p:nvPr/>
        </p:nvSpPr>
        <p:spPr>
          <a:xfrm>
            <a:off x="3657600" y="2857680"/>
            <a:ext cx="79200" cy="66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Группа 41"/>
          <p:cNvGrpSpPr/>
          <p:nvPr/>
        </p:nvGrpSpPr>
        <p:grpSpPr>
          <a:xfrm>
            <a:off x="8793000" y="1293840"/>
            <a:ext cx="1113480" cy="2254320"/>
            <a:chOff x="8793000" y="1293840"/>
            <a:chExt cx="1113480" cy="2254320"/>
          </a:xfrm>
        </p:grpSpPr>
        <p:grpSp>
          <p:nvGrpSpPr>
            <p:cNvPr id="289" name="Группа 27"/>
            <p:cNvGrpSpPr/>
            <p:nvPr/>
          </p:nvGrpSpPr>
          <p:grpSpPr>
            <a:xfrm>
              <a:off x="8793000" y="1293840"/>
              <a:ext cx="1113480" cy="1956960"/>
              <a:chOff x="8793000" y="1293840"/>
              <a:chExt cx="1113480" cy="1956960"/>
            </a:xfrm>
          </p:grpSpPr>
          <p:sp>
            <p:nvSpPr>
              <p:cNvPr id="290" name="Прямая соединительная линия 57"/>
              <p:cNvSpPr/>
              <p:nvPr/>
            </p:nvSpPr>
            <p:spPr>
              <a:xfrm flipH="1">
                <a:off x="8843760" y="1350720"/>
                <a:ext cx="288720" cy="179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Box 5"/>
              <p:cNvSpPr/>
              <p:nvPr/>
            </p:nvSpPr>
            <p:spPr>
              <a:xfrm>
                <a:off x="8846280" y="1445760"/>
                <a:ext cx="39852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Arial"/>
                  </a:rPr>
                  <a:t>P_3127</a:t>
                </a:r>
                <a:endParaRPr b="1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Box 20"/>
              <p:cNvSpPr/>
              <p:nvPr/>
            </p:nvSpPr>
            <p:spPr>
              <a:xfrm>
                <a:off x="9066960" y="1293840"/>
                <a:ext cx="65628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000000"/>
                    </a:solidFill>
                    <a:latin typeface="Arial"/>
                  </a:rPr>
                  <a:t>фактическая 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000000"/>
                    </a:solidFill>
                    <a:latin typeface="Arial"/>
                  </a:rPr>
                  <a:t>скважина 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Прямая соединительная линия 60"/>
              <p:cNvSpPr/>
              <p:nvPr/>
            </p:nvSpPr>
            <p:spPr>
              <a:xfrm flipH="1">
                <a:off x="8843760" y="1752480"/>
                <a:ext cx="288720" cy="1792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Box 22"/>
              <p:cNvSpPr/>
              <p:nvPr/>
            </p:nvSpPr>
            <p:spPr>
              <a:xfrm>
                <a:off x="8846280" y="1846800"/>
                <a:ext cx="39852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ff0000"/>
                    </a:solidFill>
                    <a:latin typeface="Arial"/>
                  </a:rPr>
                  <a:t>P_3413</a:t>
                </a:r>
                <a:endParaRPr b="1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Box 23"/>
              <p:cNvSpPr/>
              <p:nvPr/>
            </p:nvSpPr>
            <p:spPr>
              <a:xfrm>
                <a:off x="9127800" y="1679400"/>
                <a:ext cx="54504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ff0000"/>
                    </a:solidFill>
                    <a:latin typeface="Arial"/>
                  </a:rPr>
                  <a:t>проектная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ff0000"/>
                    </a:solidFill>
                    <a:latin typeface="Arial"/>
                  </a:rPr>
                  <a:t>скважина 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Прямая соединительная линия 65"/>
              <p:cNvSpPr/>
              <p:nvPr/>
            </p:nvSpPr>
            <p:spPr>
              <a:xfrm flipH="1">
                <a:off x="8843760" y="2399040"/>
                <a:ext cx="288720" cy="180720"/>
              </a:xfrm>
              <a:prstGeom prst="line">
                <a:avLst/>
              </a:prstGeom>
              <a:ln w="19080">
                <a:solidFill>
                  <a:srgbClr val="7030a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Box 29"/>
              <p:cNvSpPr/>
              <p:nvPr/>
            </p:nvSpPr>
            <p:spPr>
              <a:xfrm>
                <a:off x="9124920" y="2316600"/>
                <a:ext cx="5997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7030a0"/>
                    </a:solidFill>
                    <a:latin typeface="Arial"/>
                  </a:rPr>
                  <a:t>схема 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7030a0"/>
                    </a:solidFill>
                    <a:latin typeface="Arial"/>
                  </a:rPr>
                  <a:t>корреляции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Прямая соединительная линия 67"/>
              <p:cNvSpPr/>
              <p:nvPr/>
            </p:nvSpPr>
            <p:spPr>
              <a:xfrm flipH="1">
                <a:off x="8843760" y="2700720"/>
                <a:ext cx="288720" cy="180720"/>
              </a:xfrm>
              <a:prstGeom prst="line">
                <a:avLst/>
              </a:prstGeom>
              <a:ln w="158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Box 31"/>
              <p:cNvSpPr/>
              <p:nvPr/>
            </p:nvSpPr>
            <p:spPr>
              <a:xfrm>
                <a:off x="9128520" y="2614320"/>
                <a:ext cx="7779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00b050"/>
                    </a:solidFill>
                    <a:latin typeface="Arial"/>
                  </a:rPr>
                  <a:t>непроницаемые 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00b050"/>
                    </a:solidFill>
                    <a:latin typeface="Arial"/>
                  </a:rPr>
                  <a:t>разломы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Прямоугольник 2"/>
              <p:cNvSpPr/>
              <p:nvPr/>
            </p:nvSpPr>
            <p:spPr>
              <a:xfrm>
                <a:off x="8793000" y="2983320"/>
                <a:ext cx="374760" cy="266760"/>
              </a:xfrm>
              <a:prstGeom prst="rect">
                <a:avLst/>
              </a:prstGeom>
              <a:solidFill>
                <a:srgbClr val="f4c2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5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77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Box 35"/>
              <p:cNvSpPr/>
              <p:nvPr/>
            </p:nvSpPr>
            <p:spPr>
              <a:xfrm>
                <a:off x="9158400" y="2973960"/>
                <a:ext cx="40320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000000"/>
                    </a:solidFill>
                    <a:latin typeface="Arial"/>
                  </a:rPr>
                  <a:t>номер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000000"/>
                    </a:solidFill>
                    <a:latin typeface="Arial"/>
                  </a:rPr>
                  <a:t>куста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Прямая соединительная линия 73"/>
              <p:cNvSpPr/>
              <p:nvPr/>
            </p:nvSpPr>
            <p:spPr>
              <a:xfrm flipH="1">
                <a:off x="8835840" y="2057400"/>
                <a:ext cx="288720" cy="179280"/>
              </a:xfrm>
              <a:prstGeom prst="line">
                <a:avLst/>
              </a:prstGeom>
              <a:ln w="158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Box 22"/>
              <p:cNvSpPr/>
              <p:nvPr/>
            </p:nvSpPr>
            <p:spPr>
              <a:xfrm>
                <a:off x="8838720" y="2151360"/>
                <a:ext cx="3985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7f7f7f"/>
                    </a:solidFill>
                    <a:latin typeface="Arial"/>
                  </a:rPr>
                  <a:t>P_3422</a:t>
                </a:r>
                <a:endParaRPr b="1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Box 23"/>
              <p:cNvSpPr/>
              <p:nvPr/>
            </p:nvSpPr>
            <p:spPr>
              <a:xfrm>
                <a:off x="9121320" y="1984320"/>
                <a:ext cx="59364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7f7f7f"/>
                    </a:solidFill>
                    <a:latin typeface="Arial"/>
                  </a:rPr>
                  <a:t>Проектный 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7f7f7f"/>
                    </a:solidFill>
                    <a:latin typeface="Arial"/>
                  </a:rPr>
                  <a:t>фонд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Прямая соединительная линия 52"/>
            <p:cNvSpPr/>
            <p:nvPr/>
          </p:nvSpPr>
          <p:spPr>
            <a:xfrm flipH="1">
              <a:off x="8835840" y="3354480"/>
              <a:ext cx="288720" cy="180720"/>
            </a:xfrm>
            <a:prstGeom prst="line">
              <a:avLst/>
            </a:prstGeom>
            <a:ln w="15840">
              <a:solidFill>
                <a:srgbClr val="00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31"/>
            <p:cNvSpPr/>
            <p:nvPr/>
          </p:nvSpPr>
          <p:spPr>
            <a:xfrm>
              <a:off x="9128880" y="3271320"/>
              <a:ext cx="637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ffe9"/>
                  </a:solidFill>
                  <a:latin typeface="Arial"/>
                </a:rPr>
                <a:t>Зона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ffe9"/>
                  </a:solidFill>
                  <a:latin typeface="Arial"/>
                </a:rPr>
                <a:t>засолонения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Box 43"/>
          <p:cNvSpPr/>
          <p:nvPr/>
        </p:nvSpPr>
        <p:spPr>
          <a:xfrm>
            <a:off x="6565320" y="4795920"/>
            <a:ext cx="961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ff"/>
                </a:solidFill>
                <a:latin typeface="Arial"/>
              </a:rPr>
              <a:t>ГНК -1</a:t>
            </a:r>
            <a:r>
              <a:rPr b="1" lang="en-US" sz="1100" spc="-1" strike="noStrike">
                <a:solidFill>
                  <a:srgbClr val="ff00ff"/>
                </a:solidFill>
                <a:latin typeface="Arial"/>
              </a:rPr>
              <a:t>219.9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олилиния 1"/>
          <p:cNvSpPr/>
          <p:nvPr/>
        </p:nvSpPr>
        <p:spPr>
          <a:xfrm>
            <a:off x="1638360" y="1500120"/>
            <a:ext cx="4164120" cy="3154320"/>
          </a:xfrm>
          <a:custGeom>
            <a:avLst/>
            <a:gdLst/>
            <a:ahLst/>
            <a:rect l="l" t="t" r="r" b="b"/>
            <a:pathLst>
              <a:path w="4165122" h="3154351">
                <a:moveTo>
                  <a:pt x="0" y="0"/>
                </a:moveTo>
                <a:cubicBezTo>
                  <a:pt x="1324964" y="573291"/>
                  <a:pt x="1578931" y="895391"/>
                  <a:pt x="2420849" y="1358388"/>
                </a:cubicBezTo>
                <a:cubicBezTo>
                  <a:pt x="3070643" y="2228078"/>
                  <a:pt x="3530122" y="2394891"/>
                  <a:pt x="4165122" y="3154351"/>
                </a:cubicBezTo>
              </a:path>
            </a:pathLst>
          </a:custGeom>
          <a:noFill/>
          <a:ln w="25560">
            <a:solidFill>
              <a:srgbClr val="7030a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2"/>
          <p:cNvSpPr/>
          <p:nvPr/>
        </p:nvSpPr>
        <p:spPr>
          <a:xfrm>
            <a:off x="4307040" y="5043600"/>
            <a:ext cx="393480" cy="266760"/>
          </a:xfrm>
          <a:prstGeom prst="rect">
            <a:avLst/>
          </a:prstGeom>
          <a:solidFill>
            <a:srgbClr val="f4d4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2"/>
          <p:cNvSpPr/>
          <p:nvPr/>
        </p:nvSpPr>
        <p:spPr>
          <a:xfrm>
            <a:off x="5468760" y="4637160"/>
            <a:ext cx="422280" cy="266760"/>
          </a:xfrm>
          <a:prstGeom prst="rect">
            <a:avLst/>
          </a:prstGeom>
          <a:solidFill>
            <a:srgbClr val="f4d4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2"/>
          <p:cNvSpPr/>
          <p:nvPr/>
        </p:nvSpPr>
        <p:spPr>
          <a:xfrm>
            <a:off x="919080" y="1514520"/>
            <a:ext cx="581040" cy="266760"/>
          </a:xfrm>
          <a:prstGeom prst="rect">
            <a:avLst/>
          </a:prstGeom>
          <a:solidFill>
            <a:srgbClr val="f4d4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43"/>
          <p:cNvSpPr/>
          <p:nvPr/>
        </p:nvSpPr>
        <p:spPr>
          <a:xfrm>
            <a:off x="2220480" y="3313080"/>
            <a:ext cx="961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ff"/>
                </a:solidFill>
                <a:latin typeface="Arial"/>
              </a:rPr>
              <a:t>ГНК -1</a:t>
            </a:r>
            <a:r>
              <a:rPr b="1" lang="en-US" sz="1100" spc="-1" strike="noStrike">
                <a:solidFill>
                  <a:srgbClr val="ff00ff"/>
                </a:solidFill>
                <a:latin typeface="Arial"/>
              </a:rPr>
              <a:t>230.6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41"/>
          <p:cNvSpPr/>
          <p:nvPr/>
        </p:nvSpPr>
        <p:spPr>
          <a:xfrm>
            <a:off x="9191880" y="3681360"/>
            <a:ext cx="394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c00000"/>
                </a:solidFill>
                <a:latin typeface="Arial"/>
              </a:rPr>
              <a:t>Дайка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ая соединительная линия 36"/>
          <p:cNvSpPr/>
          <p:nvPr/>
        </p:nvSpPr>
        <p:spPr>
          <a:xfrm flipH="1">
            <a:off x="8848800" y="3683160"/>
            <a:ext cx="288720" cy="179280"/>
          </a:xfrm>
          <a:prstGeom prst="line">
            <a:avLst/>
          </a:prstGeom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Овал 9"/>
          <p:cNvSpPr/>
          <p:nvPr/>
        </p:nvSpPr>
        <p:spPr>
          <a:xfrm>
            <a:off x="3521160" y="3062160"/>
            <a:ext cx="79200" cy="66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6"/>
          <p:cNvSpPr/>
          <p:nvPr/>
        </p:nvSpPr>
        <p:spPr>
          <a:xfrm>
            <a:off x="2700360" y="3133800"/>
            <a:ext cx="100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3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1)=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Овал 9"/>
          <p:cNvSpPr/>
          <p:nvPr/>
        </p:nvSpPr>
        <p:spPr>
          <a:xfrm>
            <a:off x="3443400" y="2930400"/>
            <a:ext cx="79200" cy="66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6"/>
          <p:cNvSpPr/>
          <p:nvPr/>
        </p:nvSpPr>
        <p:spPr>
          <a:xfrm>
            <a:off x="2647800" y="2878200"/>
            <a:ext cx="100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3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)=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-124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9"/>
          <p:cNvSpPr/>
          <p:nvPr/>
        </p:nvSpPr>
        <p:spPr>
          <a:xfrm>
            <a:off x="3882960" y="2878200"/>
            <a:ext cx="79560" cy="66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6"/>
          <p:cNvSpPr/>
          <p:nvPr/>
        </p:nvSpPr>
        <p:spPr>
          <a:xfrm>
            <a:off x="3795840" y="3144960"/>
            <a:ext cx="107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3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Овал 9"/>
          <p:cNvSpPr/>
          <p:nvPr/>
        </p:nvSpPr>
        <p:spPr>
          <a:xfrm>
            <a:off x="3925800" y="3008160"/>
            <a:ext cx="79560" cy="66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6"/>
          <p:cNvSpPr/>
          <p:nvPr/>
        </p:nvSpPr>
        <p:spPr>
          <a:xfrm>
            <a:off x="3425760" y="1984320"/>
            <a:ext cx="107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3112</a:t>
            </a: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 откл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-1230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Овал 9"/>
          <p:cNvSpPr/>
          <p:nvPr/>
        </p:nvSpPr>
        <p:spPr>
          <a:xfrm>
            <a:off x="3441600" y="2144880"/>
            <a:ext cx="795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6"/>
          <p:cNvSpPr/>
          <p:nvPr/>
        </p:nvSpPr>
        <p:spPr>
          <a:xfrm>
            <a:off x="5597640" y="3075120"/>
            <a:ext cx="1077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31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откл.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Овал 9"/>
          <p:cNvSpPr/>
          <p:nvPr/>
        </p:nvSpPr>
        <p:spPr>
          <a:xfrm>
            <a:off x="5613480" y="3235320"/>
            <a:ext cx="792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8" descr=""/>
          <p:cNvPicPr/>
          <p:nvPr/>
        </p:nvPicPr>
        <p:blipFill>
          <a:blip r:embed="rId1"/>
          <a:stretch/>
        </p:blipFill>
        <p:spPr>
          <a:xfrm>
            <a:off x="326880" y="1042920"/>
            <a:ext cx="9166320" cy="565164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Europe"/>
              </a:rPr>
              <a:t>Приложение </a:t>
            </a:r>
            <a:r>
              <a:rPr b="1" lang="en-US" sz="1400" spc="-1" strike="noStrike">
                <a:solidFill>
                  <a:srgbClr val="000000"/>
                </a:solidFill>
                <a:latin typeface="Europe"/>
              </a:rPr>
              <a:t>2.</a:t>
            </a:r>
            <a:r>
              <a:rPr b="1" lang="ru-RU" sz="1400" spc="-1" strike="noStrike">
                <a:solidFill>
                  <a:srgbClr val="000000"/>
                </a:solidFill>
                <a:latin typeface="Europe"/>
              </a:rPr>
              <a:t>1</a:t>
            </a:r>
            <a:br>
              <a:rPr sz="2500"/>
            </a:br>
            <a:r>
              <a:rPr b="0" lang="ru-RU" sz="1600" spc="-1" strike="noStrike">
                <a:solidFill>
                  <a:srgbClr val="3d464a"/>
                </a:solidFill>
                <a:latin typeface="Europe"/>
              </a:rPr>
              <a:t>Геологический профиль</a:t>
            </a:r>
            <a:r>
              <a:rPr b="0" lang="en-US" sz="1600" spc="-1" strike="noStrike">
                <a:solidFill>
                  <a:srgbClr val="3d464a"/>
                </a:solidFill>
                <a:latin typeface="Europe"/>
              </a:rPr>
              <a:t> </a:t>
            </a:r>
            <a:r>
              <a:rPr b="0" lang="ru-RU" sz="1600" spc="-1" strike="noStrike">
                <a:solidFill>
                  <a:srgbClr val="3d464a"/>
                </a:solidFill>
                <a:latin typeface="Europe"/>
              </a:rPr>
              <a:t>вдоль ствола скважины 3413</a:t>
            </a:r>
            <a:br>
              <a:rPr sz="1600"/>
            </a:br>
            <a:r>
              <a:rPr b="0" lang="ru-RU" sz="1600" spc="-1" strike="noStrike">
                <a:solidFill>
                  <a:srgbClr val="3d464a"/>
                </a:solidFill>
                <a:latin typeface="Europe"/>
              </a:rPr>
              <a:t>Литология</a:t>
            </a:r>
            <a:endParaRPr b="0" lang="en-US" sz="16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28" name="Text Box 41"/>
          <p:cNvSpPr/>
          <p:nvPr/>
        </p:nvSpPr>
        <p:spPr>
          <a:xfrm>
            <a:off x="1041480" y="12366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Arial"/>
                <a:ea typeface="Arial"/>
              </a:rPr>
              <a:t>Плановая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Arial"/>
                <a:ea typeface="Arial"/>
              </a:rPr>
              <a:t>траектория скв.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Arial"/>
                <a:ea typeface="Arial"/>
              </a:rPr>
              <a:t>341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3"/>
          <p:cNvSpPr/>
          <p:nvPr/>
        </p:nvSpPr>
        <p:spPr>
          <a:xfrm rot="16200000">
            <a:off x="9192600" y="5205600"/>
            <a:ext cx="90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Europe"/>
              </a:rPr>
              <a:t>ВЧ-</a:t>
            </a:r>
            <a:r>
              <a:rPr b="1" lang="en-US" sz="1400" spc="-1" strike="noStrike">
                <a:solidFill>
                  <a:srgbClr val="000000"/>
                </a:solidFill>
                <a:latin typeface="Europe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3"/>
          <p:cNvSpPr/>
          <p:nvPr/>
        </p:nvSpPr>
        <p:spPr>
          <a:xfrm rot="16200000">
            <a:off x="9176760" y="3413160"/>
            <a:ext cx="90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Europe"/>
              </a:rPr>
              <a:t>ВЧ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2" descr=""/>
          <p:cNvPicPr/>
          <p:nvPr/>
        </p:nvPicPr>
        <p:blipFill>
          <a:blip r:embed="rId2"/>
          <a:srcRect l="36796" t="91598" r="58111" b="1811"/>
          <a:stretch/>
        </p:blipFill>
        <p:spPr>
          <a:xfrm>
            <a:off x="439560" y="1217520"/>
            <a:ext cx="594000" cy="47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2" name="TextBox 1"/>
          <p:cNvSpPr/>
          <p:nvPr/>
        </p:nvSpPr>
        <p:spPr>
          <a:xfrm>
            <a:off x="2255760" y="3290760"/>
            <a:ext cx="1047960" cy="276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К -1230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олилиния 27"/>
          <p:cNvSpPr/>
          <p:nvPr/>
        </p:nvSpPr>
        <p:spPr>
          <a:xfrm>
            <a:off x="439560" y="3544920"/>
            <a:ext cx="8856720" cy="360"/>
          </a:xfrm>
          <a:custGeom>
            <a:avLst/>
            <a:gdLst/>
            <a:ahLst/>
            <a:rect l="l" t="t" r="r" b="b"/>
            <a:pathLst>
              <a:path w="4981904" h="23648">
                <a:moveTo>
                  <a:pt x="0" y="23648"/>
                </a:moveTo>
                <a:lnTo>
                  <a:pt x="4981904" y="0"/>
                </a:lnTo>
              </a:path>
            </a:pathLst>
          </a:custGeom>
          <a:noFill/>
          <a:ln w="3816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32"/>
          <p:cNvSpPr/>
          <p:nvPr/>
        </p:nvSpPr>
        <p:spPr>
          <a:xfrm>
            <a:off x="7496640" y="6351480"/>
            <a:ext cx="1388160" cy="12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Забой=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 -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296.2 (1640.0 MD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Овал 3"/>
          <p:cNvSpPr/>
          <p:nvPr/>
        </p:nvSpPr>
        <p:spPr>
          <a:xfrm>
            <a:off x="8207280" y="4049640"/>
            <a:ext cx="88920" cy="6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Овал 3"/>
          <p:cNvSpPr/>
          <p:nvPr/>
        </p:nvSpPr>
        <p:spPr>
          <a:xfrm>
            <a:off x="8220240" y="5527800"/>
            <a:ext cx="88560" cy="6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7"/>
          <p:cNvSpPr/>
          <p:nvPr/>
        </p:nvSpPr>
        <p:spPr>
          <a:xfrm>
            <a:off x="8438760" y="394668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235.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7"/>
          <p:cNvSpPr/>
          <p:nvPr/>
        </p:nvSpPr>
        <p:spPr>
          <a:xfrm>
            <a:off x="8438760" y="538956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25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6"/>
          <p:cNvSpPr/>
          <p:nvPr/>
        </p:nvSpPr>
        <p:spPr>
          <a:xfrm>
            <a:off x="4903920" y="6016680"/>
            <a:ext cx="19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5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0 (34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M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Группа 8"/>
          <p:cNvGrpSpPr/>
          <p:nvPr/>
        </p:nvGrpSpPr>
        <p:grpSpPr>
          <a:xfrm>
            <a:off x="533880" y="3946680"/>
            <a:ext cx="6206760" cy="2068200"/>
            <a:chOff x="533880" y="3946680"/>
            <a:chExt cx="6206760" cy="2068200"/>
          </a:xfrm>
        </p:grpSpPr>
        <p:sp>
          <p:nvSpPr>
            <p:cNvPr id="341" name="Овал 3"/>
            <p:cNvSpPr/>
            <p:nvPr/>
          </p:nvSpPr>
          <p:spPr>
            <a:xfrm>
              <a:off x="4694040" y="5598360"/>
              <a:ext cx="88560" cy="68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1"/>
            <p:cNvSpPr/>
            <p:nvPr/>
          </p:nvSpPr>
          <p:spPr>
            <a:xfrm>
              <a:off x="1917360" y="3946680"/>
              <a:ext cx="202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1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7.00 (2668.00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D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2"/>
            <p:cNvSpPr/>
            <p:nvPr/>
          </p:nvSpPr>
          <p:spPr>
            <a:xfrm>
              <a:off x="533880" y="4902480"/>
              <a:ext cx="245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Колонна=-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1.78 (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55.00 MD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Овал 3"/>
            <p:cNvSpPr/>
            <p:nvPr/>
          </p:nvSpPr>
          <p:spPr>
            <a:xfrm>
              <a:off x="2206440" y="4626360"/>
              <a:ext cx="8856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Овал 3"/>
            <p:cNvSpPr/>
            <p:nvPr/>
          </p:nvSpPr>
          <p:spPr>
            <a:xfrm>
              <a:off x="1865160" y="4146480"/>
              <a:ext cx="8856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Box 16"/>
            <p:cNvSpPr/>
            <p:nvPr/>
          </p:nvSpPr>
          <p:spPr>
            <a:xfrm>
              <a:off x="4787280" y="5493600"/>
              <a:ext cx="195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5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(3400.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MD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Box 1"/>
            <p:cNvSpPr/>
            <p:nvPr/>
          </p:nvSpPr>
          <p:spPr>
            <a:xfrm>
              <a:off x="2288520" y="4335480"/>
              <a:ext cx="202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=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1.78 (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36.74 MD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132"/>
            <p:cNvSpPr/>
            <p:nvPr/>
          </p:nvSpPr>
          <p:spPr>
            <a:xfrm>
              <a:off x="4160520" y="5892840"/>
              <a:ext cx="141516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Забой=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1254.1 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(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3485.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0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MD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)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Овал 3"/>
            <p:cNvSpPr/>
            <p:nvPr/>
          </p:nvSpPr>
          <p:spPr>
            <a:xfrm>
              <a:off x="2063520" y="4611960"/>
              <a:ext cx="8856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Овал 3"/>
            <p:cNvSpPr/>
            <p:nvPr/>
          </p:nvSpPr>
          <p:spPr>
            <a:xfrm>
              <a:off x="4809960" y="5824080"/>
              <a:ext cx="88560" cy="68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Овал 3"/>
            <p:cNvSpPr/>
            <p:nvPr/>
          </p:nvSpPr>
          <p:spPr>
            <a:xfrm>
              <a:off x="4451040" y="4259520"/>
              <a:ext cx="8856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Овал 3"/>
            <p:cNvSpPr/>
            <p:nvPr/>
          </p:nvSpPr>
          <p:spPr>
            <a:xfrm>
              <a:off x="4713120" y="4258080"/>
              <a:ext cx="8856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Овал 3"/>
            <p:cNvSpPr/>
            <p:nvPr/>
          </p:nvSpPr>
          <p:spPr>
            <a:xfrm>
              <a:off x="4206960" y="5598360"/>
              <a:ext cx="8856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Овал 3"/>
            <p:cNvSpPr/>
            <p:nvPr/>
          </p:nvSpPr>
          <p:spPr>
            <a:xfrm>
              <a:off x="3952800" y="5599800"/>
              <a:ext cx="8856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Box 1"/>
            <p:cNvSpPr/>
            <p:nvPr/>
          </p:nvSpPr>
          <p:spPr>
            <a:xfrm>
              <a:off x="3954960" y="3977640"/>
              <a:ext cx="113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3(2)=-1240м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1"/>
            <p:cNvSpPr/>
            <p:nvPr/>
          </p:nvSpPr>
          <p:spPr>
            <a:xfrm>
              <a:off x="4761360" y="4251960"/>
              <a:ext cx="113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3(1)=-1236м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1"/>
            <p:cNvSpPr/>
            <p:nvPr/>
          </p:nvSpPr>
          <p:spPr>
            <a:xfrm>
              <a:off x="2913840" y="5718960"/>
              <a:ext cx="113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3(3)=-1252м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Box 1"/>
            <p:cNvSpPr/>
            <p:nvPr/>
          </p:nvSpPr>
          <p:spPr>
            <a:xfrm>
              <a:off x="3978360" y="5288400"/>
              <a:ext cx="113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3(4)=-1252м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Равнобедренный треугольник 2"/>
            <p:cNvSpPr/>
            <p:nvPr/>
          </p:nvSpPr>
          <p:spPr>
            <a:xfrm flipV="1" rot="17052000">
              <a:off x="2007720" y="4542840"/>
              <a:ext cx="199440" cy="182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ff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0" name="Прямая со стрелкой 4"/>
            <p:cNvCxnSpPr/>
            <p:nvPr/>
          </p:nvCxnSpPr>
          <p:spPr>
            <a:xfrm flipV="1">
              <a:off x="1390320" y="4595760"/>
              <a:ext cx="614880" cy="295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61" name="Группа 41"/>
          <p:cNvGrpSpPr/>
          <p:nvPr/>
        </p:nvGrpSpPr>
        <p:grpSpPr>
          <a:xfrm>
            <a:off x="686520" y="4098960"/>
            <a:ext cx="6206400" cy="2068200"/>
            <a:chOff x="686520" y="4098960"/>
            <a:chExt cx="6206400" cy="2068200"/>
          </a:xfrm>
        </p:grpSpPr>
        <p:sp>
          <p:nvSpPr>
            <p:cNvPr id="362" name="Овал 3"/>
            <p:cNvSpPr/>
            <p:nvPr/>
          </p:nvSpPr>
          <p:spPr>
            <a:xfrm>
              <a:off x="4846320" y="5750640"/>
              <a:ext cx="88560" cy="68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1"/>
            <p:cNvSpPr/>
            <p:nvPr/>
          </p:nvSpPr>
          <p:spPr>
            <a:xfrm>
              <a:off x="2070000" y="4098960"/>
              <a:ext cx="202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1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7.00 (2668.00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D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Box 2"/>
            <p:cNvSpPr/>
            <p:nvPr/>
          </p:nvSpPr>
          <p:spPr>
            <a:xfrm>
              <a:off x="686520" y="5054760"/>
              <a:ext cx="245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Колонна=-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1.78 (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55.00 MD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Овал 3"/>
            <p:cNvSpPr/>
            <p:nvPr/>
          </p:nvSpPr>
          <p:spPr>
            <a:xfrm>
              <a:off x="2358720" y="4778640"/>
              <a:ext cx="8856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Овал 3"/>
            <p:cNvSpPr/>
            <p:nvPr/>
          </p:nvSpPr>
          <p:spPr>
            <a:xfrm>
              <a:off x="2017440" y="4298760"/>
              <a:ext cx="8856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Box 16"/>
            <p:cNvSpPr/>
            <p:nvPr/>
          </p:nvSpPr>
          <p:spPr>
            <a:xfrm>
              <a:off x="4939560" y="5645880"/>
              <a:ext cx="195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5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(3400.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MD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Box 1"/>
            <p:cNvSpPr/>
            <p:nvPr/>
          </p:nvSpPr>
          <p:spPr>
            <a:xfrm>
              <a:off x="2440440" y="4487760"/>
              <a:ext cx="202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=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1.78 (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36.74 MD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32"/>
            <p:cNvSpPr/>
            <p:nvPr/>
          </p:nvSpPr>
          <p:spPr>
            <a:xfrm>
              <a:off x="4312440" y="6045120"/>
              <a:ext cx="141516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Забой=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1254.1 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(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3485.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0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MD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)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Овал 3"/>
            <p:cNvSpPr/>
            <p:nvPr/>
          </p:nvSpPr>
          <p:spPr>
            <a:xfrm>
              <a:off x="2216160" y="4764240"/>
              <a:ext cx="8856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Овал 3"/>
            <p:cNvSpPr/>
            <p:nvPr/>
          </p:nvSpPr>
          <p:spPr>
            <a:xfrm>
              <a:off x="4962240" y="5976360"/>
              <a:ext cx="88560" cy="68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Овал 3"/>
            <p:cNvSpPr/>
            <p:nvPr/>
          </p:nvSpPr>
          <p:spPr>
            <a:xfrm>
              <a:off x="4603320" y="4411800"/>
              <a:ext cx="8856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Овал 3"/>
            <p:cNvSpPr/>
            <p:nvPr/>
          </p:nvSpPr>
          <p:spPr>
            <a:xfrm>
              <a:off x="4865400" y="4410360"/>
              <a:ext cx="8856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Овал 3"/>
            <p:cNvSpPr/>
            <p:nvPr/>
          </p:nvSpPr>
          <p:spPr>
            <a:xfrm>
              <a:off x="4359600" y="5750640"/>
              <a:ext cx="8856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Овал 3"/>
            <p:cNvSpPr/>
            <p:nvPr/>
          </p:nvSpPr>
          <p:spPr>
            <a:xfrm>
              <a:off x="4105080" y="5752080"/>
              <a:ext cx="8856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Box 1"/>
            <p:cNvSpPr/>
            <p:nvPr/>
          </p:nvSpPr>
          <p:spPr>
            <a:xfrm>
              <a:off x="4107600" y="4129920"/>
              <a:ext cx="113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3(2)=-1240м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Box 1"/>
            <p:cNvSpPr/>
            <p:nvPr/>
          </p:nvSpPr>
          <p:spPr>
            <a:xfrm>
              <a:off x="4914000" y="4404240"/>
              <a:ext cx="113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3(1)=-1236м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Box 1"/>
            <p:cNvSpPr/>
            <p:nvPr/>
          </p:nvSpPr>
          <p:spPr>
            <a:xfrm>
              <a:off x="3066480" y="5871240"/>
              <a:ext cx="113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3(3)=-1252м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Box 1"/>
            <p:cNvSpPr/>
            <p:nvPr/>
          </p:nvSpPr>
          <p:spPr>
            <a:xfrm>
              <a:off x="4131000" y="5440680"/>
              <a:ext cx="113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3(4)=-1252м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Равнобедренный треугольник 60"/>
            <p:cNvSpPr/>
            <p:nvPr/>
          </p:nvSpPr>
          <p:spPr>
            <a:xfrm flipV="1" rot="17052000">
              <a:off x="2160000" y="4695480"/>
              <a:ext cx="199440" cy="1825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ff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Прямая со стрелкой 61"/>
            <p:cNvCxnSpPr/>
            <p:nvPr/>
          </p:nvCxnSpPr>
          <p:spPr>
            <a:xfrm flipV="1">
              <a:off x="1542960" y="4748040"/>
              <a:ext cx="614880" cy="295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382" name="Полилиния 27"/>
          <p:cNvSpPr/>
          <p:nvPr/>
        </p:nvSpPr>
        <p:spPr>
          <a:xfrm>
            <a:off x="471600" y="6269040"/>
            <a:ext cx="8856720" cy="360"/>
          </a:xfrm>
          <a:custGeom>
            <a:avLst/>
            <a:gdLst/>
            <a:ahLst/>
            <a:rect l="l" t="t" r="r" b="b"/>
            <a:pathLst>
              <a:path w="4981904" h="23648">
                <a:moveTo>
                  <a:pt x="0" y="23648"/>
                </a:moveTo>
                <a:lnTo>
                  <a:pt x="4981904" y="0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"/>
          <p:cNvSpPr/>
          <p:nvPr/>
        </p:nvSpPr>
        <p:spPr>
          <a:xfrm>
            <a:off x="906480" y="6315120"/>
            <a:ext cx="1247760" cy="276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НК -125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"/>
          <p:cNvSpPr/>
          <p:nvPr/>
        </p:nvSpPr>
        <p:spPr>
          <a:xfrm>
            <a:off x="2742480" y="3587760"/>
            <a:ext cx="42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  <a:ea typeface="Arial Unicode MS"/>
              </a:rPr>
              <a:t>Обновленная плановая траектори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Прямая со стрелкой 3"/>
          <p:cNvCxnSpPr/>
          <p:nvPr/>
        </p:nvCxnSpPr>
        <p:spPr>
          <a:xfrm flipH="1">
            <a:off x="1864440" y="3773520"/>
            <a:ext cx="862920" cy="957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Europe"/>
              </a:rPr>
              <a:t>Приложение </a:t>
            </a:r>
            <a:r>
              <a:rPr b="1" lang="en-US" sz="1400" spc="-1" strike="noStrike">
                <a:solidFill>
                  <a:srgbClr val="000000"/>
                </a:solidFill>
                <a:latin typeface="Europe"/>
              </a:rPr>
              <a:t>3.</a:t>
            </a:r>
            <a:r>
              <a:rPr b="1" lang="ru-RU" sz="1400" spc="-1" strike="noStrike">
                <a:solidFill>
                  <a:srgbClr val="000000"/>
                </a:solidFill>
                <a:latin typeface="Europe"/>
              </a:rPr>
              <a:t>1</a:t>
            </a:r>
            <a:br>
              <a:rPr sz="2500"/>
            </a:br>
            <a:r>
              <a:rPr b="0" lang="ru-RU" sz="1600" spc="-1" strike="noStrike">
                <a:solidFill>
                  <a:srgbClr val="3d464a"/>
                </a:solidFill>
                <a:latin typeface="Europe"/>
              </a:rPr>
              <a:t>Схема корреляции соседних скважин 5Р-3413</a:t>
            </a:r>
            <a:r>
              <a:rPr b="0" lang="en-US" sz="1600" spc="-1" strike="noStrike">
                <a:solidFill>
                  <a:srgbClr val="3d464a"/>
                </a:solidFill>
                <a:latin typeface="Europe"/>
              </a:rPr>
              <a:t>PL-3087</a:t>
            </a:r>
            <a:br>
              <a:rPr sz="1600"/>
            </a:br>
            <a:r>
              <a:rPr b="0" lang="ru-RU" sz="1600" spc="-1" strike="noStrike">
                <a:solidFill>
                  <a:srgbClr val="3d464a"/>
                </a:solidFill>
                <a:latin typeface="Europe"/>
              </a:rPr>
              <a:t>Выравнивание по М2</a:t>
            </a:r>
            <a:endParaRPr b="0" lang="en-US" sz="16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87" name="Прямоугольник 5"/>
          <p:cNvSpPr/>
          <p:nvPr/>
        </p:nvSpPr>
        <p:spPr>
          <a:xfrm>
            <a:off x="5952960" y="5016600"/>
            <a:ext cx="2778120" cy="78408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5"/>
          <p:cNvSpPr/>
          <p:nvPr/>
        </p:nvSpPr>
        <p:spPr>
          <a:xfrm>
            <a:off x="285840" y="4662360"/>
            <a:ext cx="2800440" cy="77976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5"/>
          <p:cNvSpPr/>
          <p:nvPr/>
        </p:nvSpPr>
        <p:spPr>
          <a:xfrm>
            <a:off x="3336840" y="4803840"/>
            <a:ext cx="2357640" cy="82692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0"/>
          <p:cNvSpPr/>
          <p:nvPr/>
        </p:nvSpPr>
        <p:spPr>
          <a:xfrm>
            <a:off x="8791560" y="3230640"/>
            <a:ext cx="577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8"/>
          <p:cNvSpPr/>
          <p:nvPr/>
        </p:nvSpPr>
        <p:spPr>
          <a:xfrm>
            <a:off x="1111320" y="6564240"/>
            <a:ext cx="75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urope"/>
              </a:rPr>
              <a:t>ЦИ 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5"/>
          <p:cNvSpPr/>
          <p:nvPr/>
        </p:nvSpPr>
        <p:spPr>
          <a:xfrm>
            <a:off x="674640" y="6608880"/>
            <a:ext cx="360360" cy="19656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3"/>
          <p:cNvSpPr/>
          <p:nvPr/>
        </p:nvSpPr>
        <p:spPr>
          <a:xfrm>
            <a:off x="8731080" y="5646600"/>
            <a:ext cx="1054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m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0"/>
          <p:cNvSpPr/>
          <p:nvPr/>
        </p:nvSpPr>
        <p:spPr>
          <a:xfrm>
            <a:off x="8813880" y="3591000"/>
            <a:ext cx="914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C1_to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0"/>
          <p:cNvSpPr/>
          <p:nvPr/>
        </p:nvSpPr>
        <p:spPr>
          <a:xfrm>
            <a:off x="8718480" y="1735200"/>
            <a:ext cx="914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_to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1"/>
          <p:cNvSpPr/>
          <p:nvPr/>
        </p:nvSpPr>
        <p:spPr>
          <a:xfrm>
            <a:off x="8791560" y="3971880"/>
            <a:ext cx="905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C1_bo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2"/>
          <p:cNvSpPr/>
          <p:nvPr/>
        </p:nvSpPr>
        <p:spPr>
          <a:xfrm>
            <a:off x="8791560" y="4491000"/>
            <a:ext cx="914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C2_to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3"/>
          <p:cNvSpPr/>
          <p:nvPr/>
        </p:nvSpPr>
        <p:spPr>
          <a:xfrm>
            <a:off x="8731080" y="5052960"/>
            <a:ext cx="914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C2_bo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17"/>
          <p:cNvSpPr/>
          <p:nvPr/>
        </p:nvSpPr>
        <p:spPr>
          <a:xfrm>
            <a:off x="2457360" y="6691320"/>
            <a:ext cx="36036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16"/>
          <p:cNvSpPr/>
          <p:nvPr/>
        </p:nvSpPr>
        <p:spPr>
          <a:xfrm>
            <a:off x="2943360" y="6615000"/>
            <a:ext cx="5870520" cy="152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Планируемая глубина спуска ЭК скв</a:t>
            </a:r>
            <a:r>
              <a:rPr b="1" lang="en-US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. </a:t>
            </a:r>
            <a:r>
              <a:rPr b="1" lang="ru-RU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3413</a:t>
            </a:r>
            <a:r>
              <a:rPr b="1" lang="en-US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 (H</a:t>
            </a:r>
            <a:r>
              <a:rPr b="1" lang="ru-RU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.к.= </a:t>
            </a:r>
            <a:r>
              <a:rPr b="1" lang="en-US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-</a:t>
            </a:r>
            <a:r>
              <a:rPr b="1" lang="ru-RU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241.78</a:t>
            </a:r>
            <a:r>
              <a:rPr b="1" lang="ru-RU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м/</a:t>
            </a:r>
            <a:r>
              <a:rPr b="1" lang="en-US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2755.00</a:t>
            </a:r>
            <a:r>
              <a:rPr b="1" lang="ru-RU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м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олилиния 2"/>
          <p:cNvSpPr/>
          <p:nvPr/>
        </p:nvSpPr>
        <p:spPr>
          <a:xfrm>
            <a:off x="331920" y="4924440"/>
            <a:ext cx="8385120" cy="377640"/>
          </a:xfrm>
          <a:custGeom>
            <a:avLst/>
            <a:gdLst/>
            <a:ahLst/>
            <a:rect l="l" t="t" r="r" b="b"/>
            <a:pathLst>
              <a:path w="8385323" h="379372">
                <a:moveTo>
                  <a:pt x="0" y="0"/>
                </a:moveTo>
                <a:lnTo>
                  <a:pt x="2751277" y="5916"/>
                </a:lnTo>
                <a:lnTo>
                  <a:pt x="3010777" y="179945"/>
                </a:lnTo>
                <a:lnTo>
                  <a:pt x="5350180" y="168069"/>
                </a:lnTo>
                <a:lnTo>
                  <a:pt x="5616504" y="379372"/>
                </a:lnTo>
                <a:lnTo>
                  <a:pt x="8385323" y="371704"/>
                </a:lnTo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Группа 4"/>
          <p:cNvGrpSpPr/>
          <p:nvPr/>
        </p:nvGrpSpPr>
        <p:grpSpPr>
          <a:xfrm>
            <a:off x="66600" y="1038240"/>
            <a:ext cx="8664480" cy="5392800"/>
            <a:chOff x="66600" y="1038240"/>
            <a:chExt cx="8664480" cy="5392800"/>
          </a:xfrm>
        </p:grpSpPr>
        <p:pic>
          <p:nvPicPr>
            <p:cNvPr id="403" name="Picture 19" descr=""/>
            <p:cNvPicPr/>
            <p:nvPr/>
          </p:nvPicPr>
          <p:blipFill>
            <a:blip r:embed="rId5"/>
            <a:stretch/>
          </p:blipFill>
          <p:spPr>
            <a:xfrm>
              <a:off x="66600" y="1059480"/>
              <a:ext cx="8664480" cy="53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Прямоугольник 1"/>
            <p:cNvSpPr/>
            <p:nvPr/>
          </p:nvSpPr>
          <p:spPr>
            <a:xfrm>
              <a:off x="3159000" y="1076040"/>
              <a:ext cx="2535120" cy="139680"/>
            </a:xfrm>
            <a:prstGeom prst="rect">
              <a:avLst/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Box 3"/>
            <p:cNvSpPr/>
            <p:nvPr/>
          </p:nvSpPr>
          <p:spPr>
            <a:xfrm>
              <a:off x="4261680" y="1038240"/>
              <a:ext cx="1804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413PL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19" descr=""/>
          <p:cNvPicPr/>
          <p:nvPr/>
        </p:nvPicPr>
        <p:blipFill>
          <a:blip r:embed="rId1"/>
          <a:stretch/>
        </p:blipFill>
        <p:spPr>
          <a:xfrm>
            <a:off x="69840" y="1012680"/>
            <a:ext cx="8845560" cy="54756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Europe"/>
              </a:rPr>
              <a:t>Приложение </a:t>
            </a:r>
            <a:r>
              <a:rPr b="1" lang="en-US" sz="1400" spc="-1" strike="noStrike">
                <a:solidFill>
                  <a:srgbClr val="000000"/>
                </a:solidFill>
                <a:latin typeface="Europe"/>
              </a:rPr>
              <a:t>3.</a:t>
            </a:r>
            <a:r>
              <a:rPr b="1" lang="ru-RU" sz="1400" spc="-1" strike="noStrike">
                <a:solidFill>
                  <a:srgbClr val="000000"/>
                </a:solidFill>
                <a:latin typeface="Europe"/>
              </a:rPr>
              <a:t>2</a:t>
            </a:r>
            <a:br>
              <a:rPr sz="2500"/>
            </a:br>
            <a:r>
              <a:rPr b="0" lang="ru-RU" sz="1600" spc="-1" strike="noStrike">
                <a:solidFill>
                  <a:srgbClr val="3d464a"/>
                </a:solidFill>
                <a:latin typeface="Europe"/>
              </a:rPr>
              <a:t>Схема корреляции соседних скважин</a:t>
            </a:r>
            <a:r>
              <a:rPr b="0" lang="en-US" sz="1600" spc="-1" strike="noStrike">
                <a:solidFill>
                  <a:srgbClr val="3d464a"/>
                </a:solidFill>
                <a:latin typeface="Europe"/>
              </a:rPr>
              <a:t> </a:t>
            </a:r>
            <a:r>
              <a:rPr b="0" lang="ru-RU" sz="1600" spc="-1" strike="noStrike">
                <a:solidFill>
                  <a:srgbClr val="3d464a"/>
                </a:solidFill>
                <a:latin typeface="Europe"/>
              </a:rPr>
              <a:t>5Р-3413</a:t>
            </a:r>
            <a:r>
              <a:rPr b="0" lang="en-US" sz="1600" spc="-1" strike="noStrike">
                <a:solidFill>
                  <a:srgbClr val="3d464a"/>
                </a:solidFill>
                <a:latin typeface="Europe"/>
              </a:rPr>
              <a:t>PL-3087</a:t>
            </a:r>
            <a:br>
              <a:rPr sz="1600"/>
            </a:br>
            <a:r>
              <a:rPr b="0" lang="ru-RU" sz="1600" spc="-1" strike="noStrike">
                <a:solidFill>
                  <a:srgbClr val="3d464a"/>
                </a:solidFill>
                <a:latin typeface="Europe"/>
              </a:rPr>
              <a:t>Выравнивание по ВЧ</a:t>
            </a:r>
            <a:r>
              <a:rPr b="0" lang="en-US" sz="1600" spc="-1" strike="noStrike">
                <a:solidFill>
                  <a:srgbClr val="3d464a"/>
                </a:solidFill>
                <a:latin typeface="Europe"/>
              </a:rPr>
              <a:t>2</a:t>
            </a:r>
            <a:endParaRPr b="0" lang="en-US" sz="16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08" name="Прямоугольник 5"/>
          <p:cNvSpPr/>
          <p:nvPr/>
        </p:nvSpPr>
        <p:spPr>
          <a:xfrm>
            <a:off x="674640" y="6608880"/>
            <a:ext cx="360360" cy="19656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1"/>
          <p:cNvSpPr/>
          <p:nvPr/>
        </p:nvSpPr>
        <p:spPr>
          <a:xfrm>
            <a:off x="2457360" y="6691320"/>
            <a:ext cx="36036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0"/>
          <p:cNvSpPr/>
          <p:nvPr/>
        </p:nvSpPr>
        <p:spPr>
          <a:xfrm>
            <a:off x="8761320" y="2997360"/>
            <a:ext cx="577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3"/>
          <p:cNvSpPr/>
          <p:nvPr/>
        </p:nvSpPr>
        <p:spPr>
          <a:xfrm>
            <a:off x="8771040" y="6180120"/>
            <a:ext cx="1054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m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0"/>
          <p:cNvSpPr/>
          <p:nvPr/>
        </p:nvSpPr>
        <p:spPr>
          <a:xfrm>
            <a:off x="8771040" y="3336840"/>
            <a:ext cx="914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C1_to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0"/>
          <p:cNvSpPr/>
          <p:nvPr/>
        </p:nvSpPr>
        <p:spPr>
          <a:xfrm>
            <a:off x="8753400" y="1935000"/>
            <a:ext cx="914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_to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2"/>
          <p:cNvSpPr/>
          <p:nvPr/>
        </p:nvSpPr>
        <p:spPr>
          <a:xfrm>
            <a:off x="8790120" y="4691160"/>
            <a:ext cx="914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C2_to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8761320" y="5405400"/>
            <a:ext cx="914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C2_bo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5"/>
          <p:cNvSpPr/>
          <p:nvPr/>
        </p:nvSpPr>
        <p:spPr>
          <a:xfrm>
            <a:off x="328680" y="5022720"/>
            <a:ext cx="2806560" cy="78120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5"/>
          <p:cNvSpPr/>
          <p:nvPr/>
        </p:nvSpPr>
        <p:spPr>
          <a:xfrm>
            <a:off x="3438360" y="5038560"/>
            <a:ext cx="2341800" cy="79704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5"/>
          <p:cNvSpPr/>
          <p:nvPr/>
        </p:nvSpPr>
        <p:spPr>
          <a:xfrm>
            <a:off x="5991120" y="5043600"/>
            <a:ext cx="2924280" cy="80784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1"/>
          <p:cNvSpPr/>
          <p:nvPr/>
        </p:nvSpPr>
        <p:spPr>
          <a:xfrm>
            <a:off x="8771040" y="4073400"/>
            <a:ext cx="904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C1_bo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5"/>
          <p:cNvSpPr/>
          <p:nvPr/>
        </p:nvSpPr>
        <p:spPr>
          <a:xfrm>
            <a:off x="1111320" y="6564240"/>
            <a:ext cx="75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urope"/>
              </a:rPr>
              <a:t>ЦИ 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16"/>
          <p:cNvSpPr/>
          <p:nvPr/>
        </p:nvSpPr>
        <p:spPr>
          <a:xfrm>
            <a:off x="2906640" y="6615000"/>
            <a:ext cx="5870520" cy="152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Планируемая глубина спуска ЭК скв</a:t>
            </a:r>
            <a:r>
              <a:rPr b="1" lang="en-US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. </a:t>
            </a:r>
            <a:r>
              <a:rPr b="1" lang="ru-RU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3413</a:t>
            </a:r>
            <a:r>
              <a:rPr b="1" lang="en-US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 (H</a:t>
            </a:r>
            <a:r>
              <a:rPr b="1" lang="ru-RU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.к.= </a:t>
            </a:r>
            <a:r>
              <a:rPr b="1" lang="en-US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-</a:t>
            </a:r>
            <a:r>
              <a:rPr b="1" lang="ru-RU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241.78</a:t>
            </a:r>
            <a:r>
              <a:rPr b="1" lang="ru-RU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м/</a:t>
            </a:r>
            <a:r>
              <a:rPr b="1" lang="en-US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2755.00</a:t>
            </a:r>
            <a:r>
              <a:rPr b="1" lang="ru-RU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м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олилиния 20"/>
          <p:cNvSpPr/>
          <p:nvPr/>
        </p:nvSpPr>
        <p:spPr>
          <a:xfrm>
            <a:off x="231840" y="5343480"/>
            <a:ext cx="8501040" cy="69840"/>
          </a:xfrm>
          <a:custGeom>
            <a:avLst/>
            <a:gdLst/>
            <a:ahLst/>
            <a:rect l="l" t="t" r="r" b="b"/>
            <a:pathLst>
              <a:path w="8501302" h="70690">
                <a:moveTo>
                  <a:pt x="0" y="0"/>
                </a:moveTo>
                <a:lnTo>
                  <a:pt x="2839987" y="12793"/>
                </a:lnTo>
                <a:lnTo>
                  <a:pt x="3106307" y="49629"/>
                </a:lnTo>
                <a:lnTo>
                  <a:pt x="5411587" y="37753"/>
                </a:lnTo>
                <a:lnTo>
                  <a:pt x="5739331" y="70690"/>
                </a:lnTo>
                <a:lnTo>
                  <a:pt x="8501302" y="56061"/>
                </a:lnTo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18"/>
          <p:cNvSpPr/>
          <p:nvPr/>
        </p:nvSpPr>
        <p:spPr>
          <a:xfrm>
            <a:off x="3233880" y="1036800"/>
            <a:ext cx="2533680" cy="139680"/>
          </a:xfrm>
          <a:prstGeom prst="rect">
            <a:avLst/>
          </a:prstGeom>
          <a:solidFill>
            <a:srgbClr val="4f81bd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9"/>
          <p:cNvSpPr/>
          <p:nvPr/>
        </p:nvSpPr>
        <p:spPr>
          <a:xfrm>
            <a:off x="4335480" y="998640"/>
            <a:ext cx="180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13P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09:53:07Z</dcterms:created>
  <dc:creator>УГСБС ОАО "НК "Роснефть"</dc:creator>
  <dc:description/>
  <dc:language>en-US</dc:language>
  <cp:lastModifiedBy>Рахимов Тимур Ринатович</cp:lastModifiedBy>
  <dcterms:modified xsi:type="dcterms:W3CDTF">2019-06-26T18:12:06Z</dcterms:modified>
  <cp:revision>412</cp:revision>
  <dc:subject/>
  <dc:title>Slide 1</dc:title>
</cp:coreProperties>
</file>