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D558-5A39-420E-91CB-531DC59BA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BF51-6ECD-4929-BB87-C0B9BE3066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AC51-F30C-4602-AD65-1A4AAC26AEB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DDA1-E09B-4918-961E-0DDB0892BA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8D60-FC8A-46F5-9DC6-F58C2AFAB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7A78-B1FB-4C48-B608-BD275611C7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AD89-BABF-435C-A732-47C39F506D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5456-1BEA-4F53-BC51-ADFDCDC433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752A-9301-4A94-8364-EE969193A3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0EFE-A168-4484-BB98-B235BC3364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8E2F-A9DB-43ED-8F21-882A7ECEDA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0FDB-FD8D-4DD8-920B-71A009E41F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604880" y="180720"/>
            <a:ext cx="748512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4880" y="138600"/>
            <a:ext cx="748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306440" y="15192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txBody>
          <a:bodyPr lIns="18000" rIns="18000" tIns="0" bIns="18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D496-0CFF-4D6A-B093-7048589708DB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389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7A1-1972-466F-AADB-07B769323A9B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432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F996-B8DD-4F63-B6EE-3D4BCBD5D230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475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B4B-4534-4CCF-A887-0388EBDD88AC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0"/>
          <p:cNvSpPr/>
          <p:nvPr/>
        </p:nvSpPr>
        <p:spPr>
          <a:xfrm>
            <a:off x="1203480" y="3924360"/>
            <a:ext cx="7391160" cy="2522520"/>
          </a:xfrm>
          <a:custGeom>
            <a:avLst/>
            <a:gdLst/>
            <a:ahLst/>
            <a:rect l="l" t="t" r="r" b="b"/>
            <a:pathLst>
              <a:path w="7391400" h="2522538">
                <a:moveTo>
                  <a:pt x="420431" y="0"/>
                </a:moveTo>
                <a:lnTo>
                  <a:pt x="7391400" y="0"/>
                </a:lnTo>
                <a:lnTo>
                  <a:pt x="7391400" y="0"/>
                </a:lnTo>
                <a:lnTo>
                  <a:pt x="7391400" y="2102107"/>
                </a:lnTo>
                <a:cubicBezTo>
                  <a:pt x="7391400" y="2334305"/>
                  <a:pt x="7203167" y="2522538"/>
                  <a:pt x="6970969" y="2522538"/>
                </a:cubicBezTo>
                <a:lnTo>
                  <a:pt x="0" y="2522538"/>
                </a:lnTo>
                <a:lnTo>
                  <a:pt x="0" y="2522538"/>
                </a:lnTo>
                <a:lnTo>
                  <a:pt x="0" y="420431"/>
                </a:lnTo>
                <a:cubicBezTo>
                  <a:pt x="0" y="188233"/>
                  <a:pt x="188233" y="0"/>
                  <a:pt x="42043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3500000"/>
          </a:gradFill>
          <a:ln w="22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6" descr=""/>
          <p:cNvPicPr/>
          <p:nvPr/>
        </p:nvPicPr>
        <p:blipFill>
          <a:blip r:embed="rId2"/>
          <a:stretch/>
        </p:blipFill>
        <p:spPr>
          <a:xfrm>
            <a:off x="1287360" y="1251000"/>
            <a:ext cx="3700440" cy="246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3" name="Rectangle 72"/>
          <p:cNvSpPr/>
          <p:nvPr/>
        </p:nvSpPr>
        <p:spPr>
          <a:xfrm>
            <a:off x="593640" y="1241280"/>
            <a:ext cx="511200" cy="5227920"/>
          </a:xfrm>
          <a:prstGeom prst="rect">
            <a:avLst/>
          </a:prstGeom>
          <a:solidFill>
            <a:srgbClr val="ff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5"/>
          <p:cNvSpPr/>
          <p:nvPr/>
        </p:nvSpPr>
        <p:spPr>
          <a:xfrm>
            <a:off x="1197000" y="220680"/>
            <a:ext cx="7397640" cy="86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1"/>
          <p:cNvSpPr/>
          <p:nvPr/>
        </p:nvSpPr>
        <p:spPr>
          <a:xfrm>
            <a:off x="514440" y="1162080"/>
            <a:ext cx="609480" cy="5391000"/>
          </a:xfrm>
          <a:custGeom>
            <a:avLst/>
            <a:gdLst/>
            <a:ahLst/>
            <a:rect l="l" t="t" r="r" b="b"/>
            <a:pathLst>
              <a:path w="384" h="3390">
                <a:moveTo>
                  <a:pt x="372" y="3390"/>
                </a:moveTo>
                <a:lnTo>
                  <a:pt x="0" y="3390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2"/>
          <p:cNvSpPr/>
          <p:nvPr/>
        </p:nvSpPr>
        <p:spPr>
          <a:xfrm>
            <a:off x="1181160" y="152280"/>
            <a:ext cx="7496280" cy="639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9987" y="0"/>
                </a:lnTo>
                <a:lnTo>
                  <a:pt x="9987" y="1565"/>
                </a:lnTo>
                <a:lnTo>
                  <a:pt x="38" y="1565"/>
                </a:lnTo>
                <a:lnTo>
                  <a:pt x="38" y="5687"/>
                </a:lnTo>
                <a:lnTo>
                  <a:pt x="5182" y="5687"/>
                </a:lnTo>
                <a:cubicBezTo>
                  <a:pt x="5179" y="4407"/>
                  <a:pt x="5165" y="3009"/>
                  <a:pt x="5162" y="1729"/>
                </a:cubicBezTo>
                <a:lnTo>
                  <a:pt x="10000" y="1729"/>
                </a:lnTo>
                <a:lnTo>
                  <a:pt x="10000" y="10000"/>
                </a:lnTo>
                <a:lnTo>
                  <a:pt x="13" y="100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1" descr=""/>
          <p:cNvPicPr/>
          <p:nvPr/>
        </p:nvPicPr>
        <p:blipFill>
          <a:blip r:embed="rId3"/>
          <a:stretch/>
        </p:blipFill>
        <p:spPr>
          <a:xfrm>
            <a:off x="514440" y="152280"/>
            <a:ext cx="2646360" cy="971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1ADB-C8E7-479F-974D-5F45FC8D88F2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44A9-6DF1-46A9-95CC-C5EFD71BA529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173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A90-A6BA-4602-A4B8-EDCC2F7FFA7D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216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B7E-458E-41CE-BB4B-E89D44EA9CB3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259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275B-3DF1-4676-B642-B2C577B4ED95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302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CD5-5E19-479B-B5AE-2DBBAB1C89B8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9"/>
          <p:cNvSpPr/>
          <p:nvPr/>
        </p:nvSpPr>
        <p:spPr>
          <a:xfrm>
            <a:off x="0" y="0"/>
            <a:ext cx="9144000" cy="14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7f7f7f"/>
                </a:solidFill>
                <a:latin typeface="Arial"/>
                <a:ea typeface="Arial"/>
              </a:rPr>
              <a:t>Центр геологического сопровождения бурения скважин +7(499)517.88.88 (доб. 66536), +7 (926) 650-04-25 круглосуточ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346" name="Полилиния 15"/>
          <p:cNvSpPr/>
          <p:nvPr/>
        </p:nvSpPr>
        <p:spPr>
          <a:xfrm>
            <a:off x="15840" y="152280"/>
            <a:ext cx="9105840" cy="351000"/>
          </a:xfrm>
          <a:custGeom>
            <a:avLst/>
            <a:gdLst/>
            <a:ahLst/>
            <a:rect l="l" t="t" r="r" b="b"/>
            <a:pathLst>
              <a:path w="9105900" h="327660">
                <a:moveTo>
                  <a:pt x="1287780" y="0"/>
                </a:moveTo>
                <a:lnTo>
                  <a:pt x="9105900" y="0"/>
                </a:lnTo>
                <a:lnTo>
                  <a:pt x="9105900" y="327660"/>
                </a:lnTo>
                <a:lnTo>
                  <a:pt x="0" y="3276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5"/>
          <p:cNvSpPr/>
          <p:nvPr/>
        </p:nvSpPr>
        <p:spPr>
          <a:xfrm>
            <a:off x="1306440" y="152280"/>
            <a:ext cx="270000" cy="304920"/>
          </a:xfrm>
          <a:prstGeom prst="rect">
            <a:avLst/>
          </a:prstGeom>
          <a:solidFill>
            <a:srgbClr val="ffd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350-320A-45F2-8CDA-035345BC4114}" type="slidenum"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04880" y="180720"/>
            <a:ext cx="7485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179680" y="1325160"/>
            <a:ext cx="34146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нальный отч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 геологическом сопровождении бурения скважины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684440" y="4019400"/>
          <a:ext cx="6095880" cy="2295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3364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ДО ОАО «НК «Роснефт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А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Месторо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К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Скваж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Целевой 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терриген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Тип скваж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БГС добывающ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Дата окончания бу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5-янв-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Подготовл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Фамилия 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f7f7f"/>
                          </a:solidFill>
                          <a:latin typeface="Arial"/>
                          <a:ea typeface="Arial Unicode MS"/>
                        </a:rPr>
                        <a:t>Контактная информ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Телеф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__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@rosneft.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15680" y="179280"/>
            <a:ext cx="7481880" cy="3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ая информация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Text Box 408"/>
          <p:cNvSpPr/>
          <p:nvPr/>
        </p:nvSpPr>
        <p:spPr>
          <a:xfrm>
            <a:off x="0" y="6172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* Согласно окончательной интерпретации данных ГИС в открытом стволе скважины по итогам бур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асхождение при перезаписи в точке Т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указывается в случае превышения допустимого значения на 3м (по стволу) и боле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Объект 3"/>
          <p:cNvGraphicFramePr/>
          <p:nvPr/>
        </p:nvGraphicFramePr>
        <p:xfrm>
          <a:off x="88920" y="606600"/>
          <a:ext cx="893916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606600"/>
                    <a:ext cx="893916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3"/>
          <p:cNvSpPr/>
          <p:nvPr/>
        </p:nvSpPr>
        <p:spPr>
          <a:xfrm>
            <a:off x="1440" y="6054840"/>
            <a:ext cx="9142560" cy="5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урение горизонтальной секции ствола скважины закончено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1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января 2019г по достижению проектного забоя 3722 м (АО – 2396,7м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. Прогноз на угол падения  кровли пласта согл.тек.настройке – 0,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3. Причины недостижения геологических задач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1616040" y="179280"/>
            <a:ext cx="7481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одка горизонтального ст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Группа 2"/>
          <p:cNvGrpSpPr/>
          <p:nvPr/>
        </p:nvGrpSpPr>
        <p:grpSpPr>
          <a:xfrm>
            <a:off x="30240" y="498600"/>
            <a:ext cx="9067680" cy="5438520"/>
            <a:chOff x="30240" y="498600"/>
            <a:chExt cx="9067680" cy="5438520"/>
          </a:xfrm>
        </p:grpSpPr>
        <p:pic>
          <p:nvPicPr>
            <p:cNvPr id="525" name="Picture 24" descr=""/>
            <p:cNvPicPr/>
            <p:nvPr/>
          </p:nvPicPr>
          <p:blipFill>
            <a:blip r:embed="rId1"/>
            <a:stretch/>
          </p:blipFill>
          <p:spPr>
            <a:xfrm>
              <a:off x="30240" y="498600"/>
              <a:ext cx="9067680" cy="54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Прямоугольник 1"/>
            <p:cNvSpPr/>
            <p:nvPr/>
          </p:nvSpPr>
          <p:spPr>
            <a:xfrm>
              <a:off x="1950840" y="5113080"/>
              <a:ext cx="2857320" cy="19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1616040" y="179280"/>
            <a:ext cx="7481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рпретация данных Г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7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8:47:40Z</dcterms:created>
  <dc:creator>УГСБС ОАО "НК "Роснефть"</dc:creator>
  <dc:description/>
  <dc:language>en-US</dc:language>
  <cp:lastModifiedBy>Павлова Елена Александровна</cp:lastModifiedBy>
  <dcterms:modified xsi:type="dcterms:W3CDTF">2019-12-20T12:51:12Z</dcterms:modified>
  <cp:revision>589</cp:revision>
  <dc:subject/>
  <dc:title>Слайд 1</dc:title>
</cp:coreProperties>
</file>